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30BDE-430A-4C9B-B041-116390693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F55C2-A2BB-4946-A7C9-1E695616A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2A467-3457-4278-A637-0557C558C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98B3B-3529-4A57-A876-8E60DD07C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E94D1-5E3A-4F66-B9E9-D2DF301C4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AC3B9-20C9-4687-A36C-D283B9C36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2A6C4-3DD5-43FD-9C72-DE1F4C3DB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4FCBF-28BF-437F-875C-D9C867CC8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F1B7B-C210-4ADB-B4B4-2CEAEDAB6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F3FC5-F057-4BDD-B7DB-54F16E526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F6AA4-0979-425B-A8B0-849FC1DA4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77AB5-6E9B-48B9-98AC-598013F2D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CC5D6-263E-4D5E-9FDD-F88D9BAEE80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21T00:59:46Z</dcterms:created>
  <dc:creator>Administrator</dc:creator>
  <dc:description/>
  <dc:language>en-US</dc:language>
  <cp:lastModifiedBy>Administrator</cp:lastModifiedBy>
  <dcterms:modified xsi:type="dcterms:W3CDTF">2015-04-21T01:00:09Z</dcterms:modified>
  <cp:revision>1</cp:revision>
  <dc:subject/>
  <dc:title/>
</cp:coreProperties>
</file>